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557-0F29-448B-BFBB-89B88D62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ED9-AA67-4908-BE7D-B5EA3944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9FA-762D-4053-B179-085D9A08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1FC-2B7E-44B5-B929-576E64C9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94E4-BE31-4052-A088-99478708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5541-5749-46CF-A4C5-EB645ED8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E00B-71BB-4D9D-9F4F-96C0FFA7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A6DD-DF92-4122-A09B-736C3158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7CE7-BAE8-4C7B-8963-E16A99B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7862-4CAE-46D1-8CC9-1A8E88E7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3C9C-23A7-43EB-A32A-87994CE5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037-49F4-452C-9759-C7FEFA79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4453-75CE-4736-B4E4-AA987DD7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A1CE-0B50-4304-B5CE-D71566F4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16AA-06BA-4E62-A011-BA729164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EE58-DC25-4D6F-926F-0FC27E5B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B971-8D49-40E3-A491-1413BA4A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D94-561A-40A4-9B5F-77EC4F75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A91-B745-4E84-9F77-5FD679C0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522-DC8A-492A-B030-22646C13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E22-0763-4261-81FC-D578B4D7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ABF-F5DB-4149-86CD-DD7A9DC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808-10FB-4A73-B9AE-14CD3B8E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EA7-C306-49E2-9786-48B6AECD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806C-2E9E-444C-AC72-76C474226106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C892-C6BD-4077-8731-65E66A074787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t.wikipedia.org/wiki/Brasil" TargetMode="External"/><Relationship Id="rId2" Type="http://schemas.openxmlformats.org/officeDocument/2006/relationships/hyperlink" Target="http://pt.wikipedia.org/wiki/Negro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t.wikipedia.org/wiki/Zumbi_dos_Palmares" TargetMode="External"/><Relationship Id="rId2" Type="http://schemas.openxmlformats.org/officeDocument/2006/relationships/hyperlink" Target="http://pt.wikipedia.org/wiki/1695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Movimento_Negro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t.wikipedia.org/wiki/1960" TargetMode="External"/><Relationship Id="rId2" Type="http://schemas.openxmlformats.org/officeDocument/2006/relationships/hyperlink" Target="http://pt.wikipedia.org/wiki/13_de_Maio" TargetMode="External"/><Relationship Id="rId3" Type="http://schemas.openxmlformats.org/officeDocument/2006/relationships/hyperlink" Target="http://pt.wikipedia.org/wiki/Abolicionismo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sciência Neg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Dia Da Consciência Negr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Dia 20 De Novemb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tuais Da Consciência Neg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tuais Dos Homen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enininha Negra é uma prova de  orgulho da Consciência Neg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m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♥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Alunas: Rubya e Letici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N° 30 e 3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Professora: Nilz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Comic Sans MS"/>
              </a:rPr>
              <a:t>7° Ano 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Consciência Neg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Dia da Consciência Negra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é celebrado em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20 de Novembr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n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Brasil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e é dedicado à reflexão sobre a inserção d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negro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na sociedade brasileira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emana Da Consciênci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gr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data foi escolhida por coincidir com o dia da morte d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Zumbi dos Palmar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, em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1695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umas entidades como o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Movimento Negr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 maior do gênero no país) organizam palestras e eventos educativos, visando principalmente crianças negra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ocura-se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rocura-se evitar o desenvolvimento do auto-preconceito, ou seja, da inferiorizarão perante a sociedad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tros temas debatidos pela comunidade negr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utros temas debatidos pela comunidade negra e que ganham evidência neste dia são: inserção do negro no mercado de trabalho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tas Universitárias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e há discriminação por parte da polícia, identificação de etnias, moda e beleza negra, etc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dia é celebrado desde a década d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1960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mbora só tenha ampliado seus eventos nos últimos anos; até então, o movimento negro precisava se contentar com o dia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13 de Mai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3"/>
              </a:rPr>
              <a:t>Abolição da Escravatura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– comemoração que tem sido rejeitada por enfatizar muitas vezes a "generosidade" da princesa Isab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apoeir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4360" y="1978200"/>
            <a:ext cx="777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19:03Z</dcterms:created>
  <dc:creator>SEDMS</dc:creator>
  <dc:description/>
  <dc:language>en-US</dc:language>
  <cp:lastModifiedBy>administradorr</cp:lastModifiedBy>
  <dcterms:modified xsi:type="dcterms:W3CDTF">2010-11-09T17:35:45Z</dcterms:modified>
  <cp:revision>2</cp:revision>
  <dc:subject/>
  <dc:title>Consciência Negra</dc:title>
</cp:coreProperties>
</file>